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0C6E-2DB4-4D14-85E6-A13327AC7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4C08C-94D8-42FF-A6EC-D1E7FA4EE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61DC7-7AB9-487D-BD1D-021046AC5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C2429-2043-4EDD-A8A4-A94269078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B30C9-2F99-49A9-881E-1082EF91E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95FD69-4318-4DB0-9B19-84ED758C8E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3CCD67-C9AC-4ED6-B0D8-F4C4536ACC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6FFB40-DF7E-40CA-A6FA-020823436F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0CBF7-F73E-436C-B182-575B07BD1B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45D72-3716-4BF8-A918-25C8553C49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CD417-FFEF-4CC6-92D7-4529C456BB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B1E65-89A7-4F79-AAF2-56944320C8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D03AE-761A-45F8-8E59-51C6D9CEB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4439D-E128-4B0E-9C08-877486E6D0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7A0A4-5A6A-4606-B9FE-59AA8CFE71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DBA382-2A9E-42F9-9915-3C0D6E6DBB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B17800-54DD-460E-BCFC-F1E57BB2CDC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AEC466-2EA7-494F-8F15-4E5DEDD5259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4B8F-6FE5-4311-BBA0-0822A51A6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320B-A790-4A35-9700-C24CA9D73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338A-23E1-4DB2-A5B5-04CDC13B3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97AD5-DA3E-447E-A649-50BB2C90F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6E18F-63F7-4138-9204-D5D8AFF7E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7F24-EBA9-48AF-AFD5-A8616DAAE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46854-7787-4C8E-AFE5-0A50C8506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420A-D9FC-4EFA-99B9-24AC7D8E1A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6E4F-FFB3-479E-B6B8-408ED59DA3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 Tell The Good News</a:t>
            </a:r>
            <a:br>
              <a:rPr sz="4400"/>
            </a:br>
            <a:r>
              <a:rPr b="0" lang="en-US" sz="3200" spc="-1" strike="noStrike">
                <a:solidFill>
                  <a:srgbClr val="ffffff"/>
                </a:solidFill>
                <a:latin typeface="Tahoma"/>
              </a:rPr>
              <a:t>Summary of 2 Corinthians, Part 1</a:t>
            </a:r>
            <a:endParaRPr b="0" lang="en-US" sz="3200" spc="-1" strike="noStrike">
              <a:solidFill>
                <a:srgbClr val="ffffff"/>
              </a:solidFill>
              <a:latin typeface="Tahoma"/>
            </a:endParaRPr>
          </a:p>
        </p:txBody>
      </p:sp>
      <p:sp>
        <p:nvSpPr>
          <p:cNvPr id="91" name="PlaceHolder 2"/>
          <p:cNvSpPr>
            <a:spLocks noGrp="1"/>
          </p:cNvSpPr>
          <p:nvPr>
            <p:ph type="subTitle"/>
          </p:nvPr>
        </p:nvSpPr>
        <p:spPr>
          <a:xfrm>
            <a:off x="1371600" y="3276360"/>
            <a:ext cx="6400800" cy="1981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rter 12, Lesson 5</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s 19:23 – 20:1</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orinthians 1 – 3</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ges 151 - 15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80520"/>
            <a:ext cx="8229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etrius and the silversmiths</a:t>
            </a:r>
            <a:br>
              <a:rPr sz="4000"/>
            </a:br>
            <a:r>
              <a:rPr b="0" lang="en-US" sz="4000" spc="-1" strike="noStrike">
                <a:solidFill>
                  <a:srgbClr val="ffffff"/>
                </a:solidFill>
                <a:latin typeface="Tahoma"/>
              </a:rPr>
              <a:t>Acts 19:23-41</a:t>
            </a:r>
            <a:endParaRPr b="0" lang="en-US" sz="4000" spc="-1" strike="noStrike">
              <a:solidFill>
                <a:srgbClr val="ffffff"/>
              </a:solidFill>
              <a:latin typeface="Tahoma"/>
            </a:endParaRPr>
          </a:p>
        </p:txBody>
      </p:sp>
      <p:sp>
        <p:nvSpPr>
          <p:cNvPr id="93" name="PlaceHolder 2"/>
          <p:cNvSpPr>
            <a:spLocks noGrp="1"/>
          </p:cNvSpPr>
          <p:nvPr>
            <p:ph/>
          </p:nvPr>
        </p:nvSpPr>
        <p:spPr>
          <a:xfrm>
            <a:off x="457200" y="2514600"/>
            <a:ext cx="815328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etrius summoned silver craftsmen to oppose Paul’s teaching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had convinced many that gods are not made with hand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us and Aristarchus were captured and taken to the theatr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as persuaded not to ent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lversmiths rioted for about two hour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own clerk diffused the crow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ul leaves Ephesus and travels to Macedonia</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rote his second letter to the Corinthians as he traveled through Macedonia after persecution arose in Ephesu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as anxious about several matters at this tim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riot at Ephesus had been troubl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e wanted to hear from Titus after sending the first letter to the Corinthia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re were struggles without, fears with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ul’s 3</a:t>
            </a:r>
            <a:r>
              <a:rPr b="0" lang="en-US" sz="4400" spc="-1" strike="noStrike" baseline="30000">
                <a:solidFill>
                  <a:srgbClr val="ffffff"/>
                </a:solidFill>
                <a:latin typeface="Tahoma"/>
              </a:rPr>
              <a:t>rd</a:t>
            </a:r>
            <a:r>
              <a:rPr b="0" lang="en-US" sz="4400" spc="-1" strike="noStrike">
                <a:solidFill>
                  <a:srgbClr val="ffffff"/>
                </a:solidFill>
                <a:latin typeface="Tahoma"/>
              </a:rPr>
              <a:t> Missionary Journey</a:t>
            </a:r>
            <a:endParaRPr b="0" lang="en-US" sz="4400" spc="-1" strike="noStrike">
              <a:solidFill>
                <a:srgbClr val="ffffff"/>
              </a:solidFill>
              <a:latin typeface="Tahoma"/>
            </a:endParaRPr>
          </a:p>
        </p:txBody>
      </p:sp>
      <p:pic>
        <p:nvPicPr>
          <p:cNvPr id="97" name="" descr=""/>
          <p:cNvPicPr/>
          <p:nvPr/>
        </p:nvPicPr>
        <p:blipFill>
          <a:blip r:embed="rId2"/>
          <a:stretch/>
        </p:blipFill>
        <p:spPr>
          <a:xfrm>
            <a:off x="685800" y="1676520"/>
            <a:ext cx="786276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5335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1</a:t>
            </a:r>
            <a:endParaRPr b="0" lang="en-US" sz="4000" spc="-1" strike="noStrike">
              <a:solidFill>
                <a:srgbClr val="ffffff"/>
              </a:solidFill>
              <a:latin typeface="Tahoma"/>
            </a:endParaRPr>
          </a:p>
        </p:txBody>
      </p:sp>
      <p:sp>
        <p:nvSpPr>
          <p:cNvPr id="99" name="PlaceHolder 2"/>
          <p:cNvSpPr>
            <a:spLocks noGrp="1"/>
          </p:cNvSpPr>
          <p:nvPr>
            <p:ph/>
          </p:nvPr>
        </p:nvSpPr>
        <p:spPr>
          <a:xfrm>
            <a:off x="457200" y="1752480"/>
            <a:ext cx="8229600" cy="4678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greeted the church at Corinth and saints in Acha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d comforts us in our tribulations that we may be able to comfort oth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ther Paul was afflicted or comforted, it was for the consolation and salvation of oth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ugh Paul feared for his life, he did not trust in himself; he trusted in God who raises from the dea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expressed appreciation for Corinth in helping with pray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had planned to visit Corinth as he traveled to Macedonia and again as he returned to Jud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wanted them to know that he was not fickle in changing his pla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had confidence that they would solve their proble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
            <a:ext cx="82296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2</a:t>
            </a:r>
            <a:endParaRPr b="0" lang="en-US" sz="4400" spc="-1" strike="noStrike">
              <a:solidFill>
                <a:srgbClr val="ffffff"/>
              </a:solidFill>
              <a:latin typeface="Tahoma"/>
            </a:endParaRPr>
          </a:p>
        </p:txBody>
      </p:sp>
      <p:sp>
        <p:nvSpPr>
          <p:cNvPr id="103" name="PlaceHolder 2"/>
          <p:cNvSpPr>
            <a:spLocks noGrp="1"/>
          </p:cNvSpPr>
          <p:nvPr>
            <p:ph/>
          </p:nvPr>
        </p:nvSpPr>
        <p:spPr>
          <a:xfrm>
            <a:off x="533520" y="1676160"/>
            <a:ext cx="82296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was determined not to come to them with heaviness of hear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requested that they forgive and comfort the transgressor that had repent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giveness is necessary to keep Satan from getting an advantag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affirmed that he, Silas, and Timothy had not corrupted the word of God, but spoke in Christ from Go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3</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re our epistle written in our hearts, known and read of all m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nistration of death engraved in stones was glorious, much more doth the ministration of righteousness exceed in glor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Ray Cooley</cp:lastModifiedBy>
  <dcterms:modified xsi:type="dcterms:W3CDTF">2007-01-11T23:38:50Z</dcterms:modified>
  <cp:revision>44</cp:revision>
  <dc:subject/>
  <dc:title>Life of Christ, Part 2 In Perea</dc:title>
</cp:coreProperties>
</file>